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628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88E3-298D-492A-BBDC-408C750D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D6A5-C978-4530-BF0B-93768650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8892 PP Interal Update-01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62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d0d62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d0d62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7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PowerPoint Slide-01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1"/>
          <p:cNvGraphicFramePr/>
          <p:nvPr/>
        </p:nvGraphicFramePr>
        <p:xfrm>
          <a:off x="3635280" y="1085760"/>
          <a:ext cx="5403960" cy="450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085760"/>
                    <a:ext cx="5403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Indoor bull system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08000" y="1474920"/>
            <a:ext cx="338436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Fe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Concentrate ad 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ilage as fibr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Can carry high numbers per ha – low forage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Analysis per head is most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Animal performance levels reasonably predic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 Cattle"/>
          <p:cNvPicPr/>
          <p:nvPr/>
        </p:nvPicPr>
        <p:blipFill>
          <a:blip r:embed="rId3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5332680" y="335772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0000"/>
                </a:solidFill>
                <a:latin typeface="Arial"/>
              </a:rPr>
              <a:t>37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6807600" y="290520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262673"/>
                </a:solidFill>
                <a:latin typeface="Arial"/>
              </a:rPr>
              <a:t>405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6520320" y="182556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b050"/>
                </a:solidFill>
                <a:latin typeface="Arial"/>
              </a:rPr>
              <a:t>45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1908000" y="18900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692360" y="188640"/>
            <a:ext cx="720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Indoor bull systems - economic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136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3160" y="1268280"/>
          <a:ext cx="7440840" cy="4321440"/>
        </p:xfrm>
        <a:graphic>
          <a:graphicData uri="http://schemas.openxmlformats.org/drawingml/2006/table">
            <a:tbl>
              <a:tblPr/>
              <a:tblGrid>
                <a:gridCol w="3597480"/>
                <a:gridCol w="376200"/>
                <a:gridCol w="1155600"/>
                <a:gridCol w="1155600"/>
                <a:gridCol w="1155960"/>
              </a:tblGrid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head (unless sta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Purchase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s fed (t/h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7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Total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Carcass weight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ven beef price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5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f price for €100/head margin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Rounded Rectangle 2"/>
          <p:cNvSpPr/>
          <p:nvPr/>
        </p:nvSpPr>
        <p:spPr>
          <a:xfrm>
            <a:off x="611280" y="4005360"/>
            <a:ext cx="777708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5"/>
          <p:cNvSpPr/>
          <p:nvPr/>
        </p:nvSpPr>
        <p:spPr>
          <a:xfrm>
            <a:off x="641520" y="5157720"/>
            <a:ext cx="777708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Chart 1"/>
          <p:cNvGraphicFramePr/>
          <p:nvPr/>
        </p:nvGraphicFramePr>
        <p:xfrm>
          <a:off x="3679920" y="1085760"/>
          <a:ext cx="5454720" cy="4530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2" name="Char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79920" y="1085760"/>
                    <a:ext cx="545472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13"/>
          <p:cNvSpPr/>
          <p:nvPr/>
        </p:nvSpPr>
        <p:spPr>
          <a:xfrm>
            <a:off x="5296320" y="340848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0000"/>
                </a:solidFill>
                <a:latin typeface="Arial"/>
              </a:rPr>
              <a:t>37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6078960" y="244152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262673"/>
                </a:solidFill>
                <a:latin typeface="Arial"/>
              </a:rPr>
              <a:t>405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6663240" y="151776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b050"/>
                </a:solidFill>
                <a:latin typeface="Arial"/>
              </a:rPr>
              <a:t>457 kg carc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50920" y="18900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Grass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08000" y="1125360"/>
            <a:ext cx="345600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Fe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tore for first 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Part grazing s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200000"/>
              </a:lnSpc>
              <a:spcBef>
                <a:spcPts val="400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Indoor fin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Higher forage demand -economics per head &amp; hectare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61645"/>
                </a:solidFill>
                <a:latin typeface="Arial"/>
              </a:rPr>
              <a:t>Grazing management skills &amp; infrastructure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1763640" y="18900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Grass-based systems - economic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125360"/>
          <a:ext cx="8569440" cy="4399200"/>
        </p:xfrm>
        <a:graphic>
          <a:graphicData uri="http://schemas.openxmlformats.org/drawingml/2006/table">
            <a:tbl>
              <a:tblPr/>
              <a:tblGrid>
                <a:gridCol w="3586320"/>
                <a:gridCol w="374760"/>
                <a:gridCol w="1152360"/>
                <a:gridCol w="1150920"/>
                <a:gridCol w="1152720"/>
                <a:gridCol w="1152360"/>
              </a:tblGrid>
              <a:tr h="346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head (unless sta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b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st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Purchase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s fed (t/h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Me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Total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,7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5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Carcass weight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ven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f price for €100/head margin (€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68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Bulls per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51" name="Rounded Rectangle 4"/>
          <p:cNvSpPr/>
          <p:nvPr/>
        </p:nvSpPr>
        <p:spPr>
          <a:xfrm>
            <a:off x="108000" y="3645000"/>
            <a:ext cx="864072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5"/>
          <p:cNvSpPr/>
          <p:nvPr/>
        </p:nvSpPr>
        <p:spPr>
          <a:xfrm>
            <a:off x="108000" y="4797360"/>
            <a:ext cx="864072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10920" y="44280"/>
            <a:ext cx="8064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Risk factors for finishing beef cattle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1120" y="630360"/>
          <a:ext cx="8894880" cy="5102280"/>
        </p:xfrm>
        <a:graphic>
          <a:graphicData uri="http://schemas.openxmlformats.org/drawingml/2006/table">
            <a:tbl>
              <a:tblPr/>
              <a:tblGrid>
                <a:gridCol w="1469880"/>
                <a:gridCol w="133920"/>
                <a:gridCol w="2397960"/>
                <a:gridCol w="2400480"/>
                <a:gridCol w="2492640"/>
              </a:tblGrid>
              <a:tr h="4521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er be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16 mo bull be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-based bull be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84312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st volume demand; (age &amp; carcass weight spe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volume demand; (primarily UK market; age specs critic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volume demand, (primarily continental EU marke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 se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requirement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selling advis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selling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ntrate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st exposur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st expo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expo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me pot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zing manag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grazing season; high autumn de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st grazing de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/summer gra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9 kg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4 kg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3 kg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mer saf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ilance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 levels of vigilance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 level of vigilance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0920" y="764640"/>
            <a:ext cx="864216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Economics of beef production system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48" name="Picture 6" descr="12 Cattle"/>
          <p:cNvPicPr/>
          <p:nvPr/>
        </p:nvPicPr>
        <p:blipFill>
          <a:blip r:embed="rId1"/>
          <a:stretch/>
        </p:blipFill>
        <p:spPr>
          <a:xfrm>
            <a:off x="395280" y="1459080"/>
            <a:ext cx="4811760" cy="369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859120" y="1459080"/>
            <a:ext cx="4351320" cy="369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"/>
          <p:cNvPicPr/>
          <p:nvPr/>
        </p:nvPicPr>
        <p:blipFill>
          <a:blip r:embed="rId3"/>
          <a:stretch/>
        </p:blipFill>
        <p:spPr>
          <a:xfrm>
            <a:off x="5940360" y="1450800"/>
            <a:ext cx="45118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61645"/>
                </a:solidFill>
                <a:latin typeface="Arial"/>
              </a:rPr>
              <a:t>Integrated suckler calf to beef production systems</a:t>
            </a:r>
            <a:endParaRPr b="0" lang="en-US" sz="40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-47520" y="-10008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Integrated calf to heifer &amp; bull/steer beef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6"/>
          <p:cNvGrpSpPr/>
          <p:nvPr/>
        </p:nvGrpSpPr>
        <p:grpSpPr>
          <a:xfrm>
            <a:off x="108000" y="620640"/>
            <a:ext cx="2355480" cy="520200"/>
            <a:chOff x="108000" y="620640"/>
            <a:chExt cx="2355480" cy="520200"/>
          </a:xfrm>
        </p:grpSpPr>
        <p:sp>
          <p:nvSpPr>
            <p:cNvPr id="54" name="Text Box 8"/>
            <p:cNvSpPr/>
            <p:nvPr/>
          </p:nvSpPr>
          <p:spPr>
            <a:xfrm>
              <a:off x="456840" y="620640"/>
              <a:ext cx="200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Heifer and indoor bull fini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108000" y="677880"/>
              <a:ext cx="266040" cy="303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3"/>
          <p:cNvSpPr/>
          <p:nvPr/>
        </p:nvSpPr>
        <p:spPr>
          <a:xfrm>
            <a:off x="2603520" y="600120"/>
            <a:ext cx="186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eifer and grass-based bull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4"/>
          <p:cNvGrpSpPr/>
          <p:nvPr/>
        </p:nvGrpSpPr>
        <p:grpSpPr>
          <a:xfrm>
            <a:off x="-91800" y="2924280"/>
            <a:ext cx="2389320" cy="1846440"/>
            <a:chOff x="-91800" y="2924280"/>
            <a:chExt cx="2389320" cy="1846440"/>
          </a:xfrm>
        </p:grpSpPr>
        <p:sp>
          <p:nvSpPr>
            <p:cNvPr id="58" name="Text Box 27"/>
            <p:cNvSpPr/>
            <p:nvPr/>
          </p:nvSpPr>
          <p:spPr>
            <a:xfrm>
              <a:off x="-91800" y="292428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ring calving cow he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8"/>
            <p:cNvSpPr/>
            <p:nvPr/>
          </p:nvSpPr>
          <p:spPr>
            <a:xfrm>
              <a:off x="118800" y="3328560"/>
              <a:ext cx="217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finished on hig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centrate &amp; forage di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8"/>
            <p:cNvSpPr/>
            <p:nvPr/>
          </p:nvSpPr>
          <p:spPr>
            <a:xfrm>
              <a:off x="61560" y="4037400"/>
              <a:ext cx="202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slaughtered a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6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6" descr="12 Cattle"/>
          <p:cNvPicPr/>
          <p:nvPr/>
        </p:nvPicPr>
        <p:blipFill>
          <a:blip r:embed="rId1"/>
          <a:stretch/>
        </p:blipFill>
        <p:spPr>
          <a:xfrm>
            <a:off x="179280" y="1255680"/>
            <a:ext cx="2078280" cy="1596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8"/>
          <p:cNvSpPr/>
          <p:nvPr/>
        </p:nvSpPr>
        <p:spPr>
          <a:xfrm>
            <a:off x="108000" y="4743360"/>
            <a:ext cx="2305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►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Heifers slaughtered at end of second grazing season at ~20 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4"/>
          <p:cNvGrpSpPr/>
          <p:nvPr/>
        </p:nvGrpSpPr>
        <p:grpSpPr>
          <a:xfrm>
            <a:off x="2411280" y="2975040"/>
            <a:ext cx="2057400" cy="2658960"/>
            <a:chOff x="2411280" y="2975040"/>
            <a:chExt cx="2057400" cy="2658960"/>
          </a:xfrm>
        </p:grpSpPr>
        <p:sp>
          <p:nvSpPr>
            <p:cNvPr id="64" name="Text Box 27"/>
            <p:cNvSpPr/>
            <p:nvPr/>
          </p:nvSpPr>
          <p:spPr>
            <a:xfrm>
              <a:off x="2418480" y="2975040"/>
              <a:ext cx="19774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w and heifer mgt. as previous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8"/>
            <p:cNvSpPr/>
            <p:nvPr/>
          </p:nvSpPr>
          <p:spPr>
            <a:xfrm>
              <a:off x="2418480" y="3790080"/>
              <a:ext cx="201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at grass for part second 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8"/>
            <p:cNvSpPr/>
            <p:nvPr/>
          </p:nvSpPr>
          <p:spPr>
            <a:xfrm>
              <a:off x="2411280" y="4581000"/>
              <a:ext cx="20574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lls rehoused on high concentrate diet for finishing at ~18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1947960" cy="1655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3"/>
          <p:cNvSpPr/>
          <p:nvPr/>
        </p:nvSpPr>
        <p:spPr>
          <a:xfrm>
            <a:off x="4940280" y="612720"/>
            <a:ext cx="201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eifer and 24mo steer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4"/>
          <p:cNvGrpSpPr/>
          <p:nvPr/>
        </p:nvGrpSpPr>
        <p:grpSpPr>
          <a:xfrm>
            <a:off x="4716360" y="2997360"/>
            <a:ext cx="2016360" cy="2458800"/>
            <a:chOff x="4716360" y="2997360"/>
            <a:chExt cx="2016360" cy="2458800"/>
          </a:xfrm>
        </p:grpSpPr>
        <p:sp>
          <p:nvSpPr>
            <p:cNvPr id="70" name="Text Box 27"/>
            <p:cNvSpPr/>
            <p:nvPr/>
          </p:nvSpPr>
          <p:spPr>
            <a:xfrm>
              <a:off x="4723560" y="2997360"/>
              <a:ext cx="200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w and heifer mgt as previous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8"/>
            <p:cNvSpPr/>
            <p:nvPr/>
          </p:nvSpPr>
          <p:spPr>
            <a:xfrm>
              <a:off x="4723560" y="3789000"/>
              <a:ext cx="200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at grass for second 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716360" y="4722840"/>
              <a:ext cx="201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finished at end of second wi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3"/>
          <p:cNvSpPr/>
          <p:nvPr/>
        </p:nvSpPr>
        <p:spPr>
          <a:xfrm>
            <a:off x="7086600" y="601560"/>
            <a:ext cx="20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eifer and 30mo steer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"/>
          <p:cNvPicPr/>
          <p:nvPr/>
        </p:nvPicPr>
        <p:blipFill>
          <a:blip r:embed="rId3"/>
          <a:stretch/>
        </p:blipFill>
        <p:spPr>
          <a:xfrm>
            <a:off x="6872400" y="1197000"/>
            <a:ext cx="19476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"/>
          <p:cNvPicPr/>
          <p:nvPr/>
        </p:nvPicPr>
        <p:blipFill>
          <a:blip r:embed="rId4"/>
          <a:stretch/>
        </p:blipFill>
        <p:spPr>
          <a:xfrm>
            <a:off x="4711680" y="1225440"/>
            <a:ext cx="1947960" cy="15987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4"/>
          <p:cNvGrpSpPr/>
          <p:nvPr/>
        </p:nvGrpSpPr>
        <p:grpSpPr>
          <a:xfrm>
            <a:off x="6897600" y="3048120"/>
            <a:ext cx="2198520" cy="2687400"/>
            <a:chOff x="6897600" y="3048120"/>
            <a:chExt cx="2198520" cy="2687400"/>
          </a:xfrm>
        </p:grpSpPr>
        <p:sp>
          <p:nvSpPr>
            <p:cNvPr id="77" name="Text Box 27"/>
            <p:cNvSpPr/>
            <p:nvPr/>
          </p:nvSpPr>
          <p:spPr>
            <a:xfrm>
              <a:off x="6905520" y="3048120"/>
              <a:ext cx="2190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w and heifer mgt as previous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6905520" y="3696480"/>
              <a:ext cx="2190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at grass for second 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>
              <a:off x="6897600" y="4362840"/>
              <a:ext cx="21985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ers stored for second winter &amp; finished at grass in third grazing sea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Oval 10"/>
          <p:cNvSpPr/>
          <p:nvPr/>
        </p:nvSpPr>
        <p:spPr>
          <a:xfrm>
            <a:off x="2362320" y="692280"/>
            <a:ext cx="264960" cy="303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4716360" y="692280"/>
            <a:ext cx="265320" cy="303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6832440" y="709560"/>
            <a:ext cx="265320" cy="303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34920" y="188640"/>
            <a:ext cx="705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155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Utilisable land area – 4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Concentrate feed price - €265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uckler replacements purchased at 12 mo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Herbage utilised ~9 t DM/ha (approx top 5% of Teagasc Monitor far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d0d6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1645"/>
                </a:solidFill>
                <a:latin typeface="Arial"/>
                <a:ea typeface="ヒラギノ角ゴ Pro W3"/>
              </a:rPr>
              <a:t>Stocking rate ~2.5 LU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834920" y="188640"/>
            <a:ext cx="705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Numbers and output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87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25892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Chart 1" descr=""/>
          <p:cNvPicPr/>
          <p:nvPr/>
        </p:nvPicPr>
        <p:blipFill>
          <a:blip r:embed="rId2"/>
          <a:stretch/>
        </p:blipFill>
        <p:spPr>
          <a:xfrm>
            <a:off x="-44280" y="777960"/>
            <a:ext cx="9153360" cy="5135400"/>
          </a:xfrm>
          <a:prstGeom prst="rect">
            <a:avLst/>
          </a:prstGeom>
          <a:ln w="0">
            <a:noFill/>
          </a:ln>
        </p:spPr>
      </p:pic>
      <p:sp>
        <p:nvSpPr>
          <p:cNvPr id="89" name="Oval 21"/>
          <p:cNvSpPr/>
          <p:nvPr/>
        </p:nvSpPr>
        <p:spPr>
          <a:xfrm>
            <a:off x="1332000" y="4869000"/>
            <a:ext cx="20628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3059280" y="4869000"/>
            <a:ext cx="20772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>
            <a:off x="4643280" y="4876920"/>
            <a:ext cx="20808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1"/>
          <p:cNvSpPr/>
          <p:nvPr/>
        </p:nvSpPr>
        <p:spPr>
          <a:xfrm>
            <a:off x="6281640" y="4869000"/>
            <a:ext cx="206640" cy="21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834920" y="188640"/>
            <a:ext cx="57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61645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707074"/>
              </a:solidFill>
              <a:latin typeface="Arial"/>
            </a:endParaRPr>
          </a:p>
        </p:txBody>
      </p:sp>
      <p:pic>
        <p:nvPicPr>
          <p:cNvPr id="94" name="Picture 6" descr="12 Cattle"/>
          <p:cNvPicPr/>
          <p:nvPr/>
        </p:nvPicPr>
        <p:blipFill>
          <a:blip r:embed="rId1"/>
          <a:stretch/>
        </p:blipFill>
        <p:spPr>
          <a:xfrm>
            <a:off x="0" y="0"/>
            <a:ext cx="1606680" cy="11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57320" y="1187280"/>
          <a:ext cx="8569080" cy="4145040"/>
        </p:xfrm>
        <a:graphic>
          <a:graphicData uri="http://schemas.openxmlformats.org/drawingml/2006/table">
            <a:tbl>
              <a:tblPr/>
              <a:tblGrid>
                <a:gridCol w="2663640"/>
                <a:gridCol w="1476360"/>
                <a:gridCol w="1476360"/>
                <a:gridCol w="1476360"/>
                <a:gridCol w="1476360"/>
              </a:tblGrid>
              <a:tr h="64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6 bull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bull*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steer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steer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hei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Output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83,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76,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70,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61,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Variable costs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0,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5,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1,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6,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Gross margin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3,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41,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8,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34,7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(€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Net margin (€/fa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20,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8,7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5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bfbfbf"/>
                          </a:solidFill>
                          <a:latin typeface="Arial"/>
                        </a:rPr>
                        <a:t>13,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ven price (c/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for €200/LU 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ounded Rectangle 5"/>
          <p:cNvSpPr/>
          <p:nvPr/>
        </p:nvSpPr>
        <p:spPr>
          <a:xfrm>
            <a:off x="11160" y="4005360"/>
            <a:ext cx="8715240" cy="431640"/>
          </a:xfrm>
          <a:prstGeom prst="roundRect">
            <a:avLst>
              <a:gd name="adj" fmla="val 16667"/>
            </a:avLst>
          </a:prstGeom>
          <a:solidFill>
            <a:srgbClr val="bfbfbf">
              <a:alpha val="20000"/>
            </a:srgbClr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6"/>
          <p:cNvSpPr/>
          <p:nvPr/>
        </p:nvSpPr>
        <p:spPr>
          <a:xfrm>
            <a:off x="11160" y="3141720"/>
            <a:ext cx="8715240" cy="431640"/>
          </a:xfrm>
          <a:prstGeom prst="roundRect">
            <a:avLst>
              <a:gd name="adj" fmla="val 16667"/>
            </a:avLst>
          </a:prstGeom>
          <a:solidFill>
            <a:srgbClr val="bfbfbf">
              <a:alpha val="20000"/>
            </a:srgbClr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5800" y="5357880"/>
            <a:ext cx="32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*Contract or agreed sale requ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7"/>
          <p:cNvSpPr/>
          <p:nvPr/>
        </p:nvSpPr>
        <p:spPr>
          <a:xfrm>
            <a:off x="19080" y="4869000"/>
            <a:ext cx="8715240" cy="431640"/>
          </a:xfrm>
          <a:prstGeom prst="roundRect">
            <a:avLst>
              <a:gd name="adj" fmla="val 16667"/>
            </a:avLst>
          </a:prstGeom>
          <a:solidFill>
            <a:srgbClr val="bfbfbf">
              <a:alpha val="20000"/>
            </a:srgbClr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61645"/>
                </a:solidFill>
                <a:latin typeface="Arial"/>
              </a:rPr>
              <a:t>Economics of weanling to bull &amp; steer finishing systems</a:t>
            </a:r>
            <a:endParaRPr b="0" lang="en-US" sz="4000" spc="-1" strike="noStrike">
              <a:solidFill>
                <a:srgbClr val="7070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-47520" y="-12600"/>
            <a:ext cx="9144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eanling to bull/steer finish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6"/>
          <p:cNvGrpSpPr/>
          <p:nvPr/>
        </p:nvGrpSpPr>
        <p:grpSpPr>
          <a:xfrm>
            <a:off x="920880" y="620640"/>
            <a:ext cx="2355480" cy="308160"/>
            <a:chOff x="920880" y="620640"/>
            <a:chExt cx="2355480" cy="308160"/>
          </a:xfrm>
        </p:grpSpPr>
        <p:sp>
          <p:nvSpPr>
            <p:cNvPr id="103" name="Text Box 8"/>
            <p:cNvSpPr/>
            <p:nvPr/>
          </p:nvSpPr>
          <p:spPr>
            <a:xfrm>
              <a:off x="1269720" y="62064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Indoor bull fini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920880" y="668160"/>
              <a:ext cx="266040" cy="260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3"/>
          <p:cNvSpPr/>
          <p:nvPr/>
        </p:nvSpPr>
        <p:spPr>
          <a:xfrm>
            <a:off x="3755880" y="600120"/>
            <a:ext cx="18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Grass-based bull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12 Cattle"/>
          <p:cNvPicPr/>
          <p:nvPr/>
        </p:nvPicPr>
        <p:blipFill>
          <a:blip r:embed="rId1"/>
          <a:stretch/>
        </p:blipFill>
        <p:spPr>
          <a:xfrm>
            <a:off x="992160" y="1255680"/>
            <a:ext cx="2077920" cy="159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3637080" y="1197000"/>
            <a:ext cx="194760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3"/>
          <p:cNvSpPr/>
          <p:nvPr/>
        </p:nvSpPr>
        <p:spPr>
          <a:xfrm>
            <a:off x="6254640" y="61272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2 yr old steer f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3"/>
          <a:stretch/>
        </p:blipFill>
        <p:spPr>
          <a:xfrm>
            <a:off x="6200640" y="1225440"/>
            <a:ext cx="1947960" cy="15987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4"/>
          <p:cNvGrpSpPr/>
          <p:nvPr/>
        </p:nvGrpSpPr>
        <p:grpSpPr>
          <a:xfrm>
            <a:off x="857880" y="3213000"/>
            <a:ext cx="2030040" cy="2088000"/>
            <a:chOff x="857880" y="3213000"/>
            <a:chExt cx="2030040" cy="2088000"/>
          </a:xfrm>
        </p:grpSpPr>
        <p:sp>
          <p:nvSpPr>
            <p:cNvPr id="111" name="Text Box 27"/>
            <p:cNvSpPr/>
            <p:nvPr/>
          </p:nvSpPr>
          <p:spPr>
            <a:xfrm>
              <a:off x="873720" y="3213000"/>
              <a:ext cx="20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d wean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866880" y="3936960"/>
              <a:ext cx="190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d on to hi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centrate di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857880" y="4780800"/>
              <a:ext cx="177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at 14 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9"/>
          <p:cNvGrpSpPr/>
          <p:nvPr/>
        </p:nvGrpSpPr>
        <p:grpSpPr>
          <a:xfrm>
            <a:off x="3359880" y="3171960"/>
            <a:ext cx="2605320" cy="2141640"/>
            <a:chOff x="3359880" y="3171960"/>
            <a:chExt cx="2605320" cy="2141640"/>
          </a:xfrm>
        </p:grpSpPr>
        <p:sp>
          <p:nvSpPr>
            <p:cNvPr id="115" name="Text Box 27"/>
            <p:cNvSpPr/>
            <p:nvPr/>
          </p:nvSpPr>
          <p:spPr>
            <a:xfrm>
              <a:off x="3386520" y="3171960"/>
              <a:ext cx="20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d wean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3383280" y="3720960"/>
              <a:ext cx="210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d for first wi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3373560" y="4793400"/>
              <a:ext cx="223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housed for finish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18 to 22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3359880" y="4199760"/>
              <a:ext cx="260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sture for  part sec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z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6054840" y="3141720"/>
            <a:ext cx="2487960" cy="2140560"/>
            <a:chOff x="6054840" y="3141720"/>
            <a:chExt cx="2487960" cy="2140560"/>
          </a:xfrm>
        </p:grpSpPr>
        <p:sp>
          <p:nvSpPr>
            <p:cNvPr id="120" name="Text Box 27"/>
            <p:cNvSpPr/>
            <p:nvPr/>
          </p:nvSpPr>
          <p:spPr>
            <a:xfrm>
              <a:off x="6067800" y="3141720"/>
              <a:ext cx="201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d wean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6064560" y="3690360"/>
              <a:ext cx="210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d for first wi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6054840" y="4762080"/>
              <a:ext cx="223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housed for finish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24 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6066720" y="4168800"/>
              <a:ext cx="247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►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sture for full sec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zing sea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10"/>
          <p:cNvSpPr/>
          <p:nvPr/>
        </p:nvSpPr>
        <p:spPr>
          <a:xfrm>
            <a:off x="3503520" y="676440"/>
            <a:ext cx="266760" cy="260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979960" y="652320"/>
            <a:ext cx="265320" cy="260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8:37:03Z</dcterms:created>
  <dc:creator>Principle 3</dc:creator>
  <dc:description/>
  <dc:language>en-US</dc:language>
  <cp:lastModifiedBy>Paul Crosson</cp:lastModifiedBy>
  <cp:lastPrinted>2014-07-15T14:59:46Z</cp:lastPrinted>
  <dcterms:modified xsi:type="dcterms:W3CDTF">2015-02-04T11:29:58Z</dcterms:modified>
  <cp:revision>383</cp:revision>
  <dc:subject/>
  <dc:title>PowerPoint Presentation</dc:title>
</cp:coreProperties>
</file>