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229A-4EB3-410F-B9EF-EF4A861EF35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inese hide and fleece trade is largest and proabably only mark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urkey takes 6 m of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annot get into premium markets due to hide and fleece qu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US market – VTEC is a huge issue, cannot be underestim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Role of both farmer and processor is critic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Process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D29D-9642-46E2-A904-8D689CA9D18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A8A-2DA4-45B3-A9B3-63A58A74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986-21EB-492F-A872-6C593F4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C7C-DC4F-46DF-97E4-B01D0919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2CB-617C-4366-8173-79E84F0C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FC8-8168-4969-AEB0-D36A9940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2C8-65BD-4665-9A67-769DA2C7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108-4BA2-4A62-9552-9623B56D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774-69B2-4D2E-B079-651F43E0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A03-84DB-442E-95F6-C9A46A0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980-3FC5-4D51-9560-CD97C98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971-467E-42A1-A73B-D0D1B33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DE4-0D30-467D-A1B0-32B64764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6789-B4E8-45FB-8AE9-8278D2DE4D21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mendelu.cz/af_291_projekty2/vseo/print.php?page=1418&amp;typ=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AFF PPT Titl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428760" y="642960"/>
            <a:ext cx="778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view and Expansion of the Clean Livestoc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eef Forum 21</a:t>
            </a:r>
            <a:r>
              <a:rPr b="0" lang="en-IE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July 20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aula Barry Walsh DC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57160" y="0"/>
            <a:ext cx="6459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eb2.mendelu.cz/af_291_projekty2/vseo/files/27/48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62640" y="3143160"/>
            <a:ext cx="4581360" cy="343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428760" y="1500120"/>
            <a:ext cx="4071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785880" y="642960"/>
            <a:ext cx="75009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Why do we need a review and expansion of CL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ide to carcase contamination is a major source of pathogens on m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ood safety – </a:t>
            </a:r>
            <a:r>
              <a:rPr b="0" lang="en-IE" sz="3200" spc="-1" strike="noStrike">
                <a:solidFill>
                  <a:srgbClr val="ffffff"/>
                </a:solidFill>
                <a:latin typeface="Calibri"/>
              </a:rPr>
              <a:t>verocytotoxic E. Coli, Sal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Trade ri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 – beef intended for grinding [F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 – opening of the sheep market [F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hinese hide and fleece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214280" y="500040"/>
            <a:ext cx="6786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a review and expansion of CLP -  Ri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oss of Chinese hide and fleece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ailure to capitalise on US markets for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eef intended for gr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ailure to gain sheep meat access to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Association with a food bo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illness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28800" y="428760"/>
            <a:ext cx="7858080" cy="68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o has a ro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ll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armers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ood business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aulier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[M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ces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ide and fleece s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AFM co-ordinating 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ole of Teagasc, FSAI – evidence based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     information to inform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Bord 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57120" y="500040"/>
            <a:ext cx="7786800" cy="65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alibri"/>
              </a:rPr>
              <a:t>How  do we progress the review and expansion of CL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Commenced with preliminary discussions internally in DAF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Discussions now ongoing with stakeholders – need positive, constructive eng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Timeline – progress as rapidly as possible to get practical programme in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00000"/>
                </a:solidFill>
                <a:latin typeface="Aharoni"/>
                <a:ea typeface="Aharoni"/>
              </a:rPr>
              <a:t>Your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00000"/>
                </a:solidFill>
                <a:latin typeface="Aharoni"/>
                <a:ea typeface="Aharoni"/>
              </a:rPr>
              <a:t>Your animals, meat , hide and fle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00000"/>
                </a:solidFill>
                <a:latin typeface="Aharoni"/>
                <a:ea typeface="Aharoni"/>
              </a:rPr>
              <a:t>Your 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000080" y="500040"/>
            <a:ext cx="6715080" cy="72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Other related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Knowledge trans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armers as Food Business Oper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CLP in the context of the farm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sse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Ploughing 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 FSAI review of VTEC – Scientific S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DAFF PPT Title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28760" y="642960"/>
            <a:ext cx="77864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view and Expansion of the Clean Livestoc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aula Barry Walsh DC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0040" y="857160"/>
            <a:ext cx="7858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lean Livestock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important to review and expan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o has a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ow to progress mat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ther related initi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42960" y="214200"/>
            <a:ext cx="764388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lean Livestock Policy – what is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t is a multi-stakeholder programme that promotes the cleanliness of animals at production to ensure clean when presented for slaughter for human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LP introduced in 1998 – cattl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57160" y="0"/>
            <a:ext cx="6459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785880" y="928800"/>
            <a:ext cx="4071960" cy="242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lock of sheep with the wool very dirty Stock Photo - 12866313"/>
          <p:cNvPicPr/>
          <p:nvPr/>
        </p:nvPicPr>
        <p:blipFill>
          <a:blip r:embed="rId3"/>
          <a:stretch/>
        </p:blipFill>
        <p:spPr>
          <a:xfrm>
            <a:off x="4429080" y="335772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857160" y="0"/>
            <a:ext cx="6459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lock of sheep with the wool very dirty Stock Photo - 12866313"/>
          <p:cNvPicPr/>
          <p:nvPr/>
        </p:nvPicPr>
        <p:blipFill>
          <a:blip r:embed="rId2"/>
          <a:stretch/>
        </p:blipFill>
        <p:spPr>
          <a:xfrm>
            <a:off x="2571840" y="150012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1619280" y="836640"/>
            <a:ext cx="59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57160" y="0"/>
            <a:ext cx="6459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[Legging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857240" y="1071720"/>
            <a:ext cx="4419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857160" y="0"/>
            <a:ext cx="645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[Hide remov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271600" y="1309680"/>
            <a:ext cx="4600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857160" y="0"/>
            <a:ext cx="645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Hide 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286000" y="1000080"/>
            <a:ext cx="5010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DAFF PPT Slide 2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071720" y="14288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57160" y="0"/>
            <a:ext cx="645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Why do we need C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[Faecal contamina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571760" y="1071720"/>
            <a:ext cx="5786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06:23:33Z</dcterms:created>
  <dc:creator>laptop.user</dc:creator>
  <dc:description/>
  <dc:language>en-US</dc:language>
  <cp:lastModifiedBy>Paula.Barrywalsh</cp:lastModifiedBy>
  <dcterms:modified xsi:type="dcterms:W3CDTF">2016-07-21T13:27:44Z</dcterms:modified>
  <cp:revision>27</cp:revision>
  <dc:subject/>
  <dc:title>Slide 1</dc:title>
</cp:coreProperties>
</file>