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31E1-BEC6-47F0-B93B-4EBE8328D26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hinese hide and fleece trade is largest and proabably only mark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urkey takes 6 m of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annot get into premium markets due to hide and fleece qu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US market – VTEC is a huge issue, cannot be underestim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Role of both farmer and processor is critic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Process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FFCE-FB9F-4AFB-8C0D-44A9C5B839FF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B3E-B06C-44A7-95B0-09EB0747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042-5FD7-48B1-86E2-A5079872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CC3-1888-4C99-AF5F-8CCE419B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ED3-3199-4932-9E24-55853308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5BD-2B06-4E08-AA64-2A744CEB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82B-E0AB-43A5-B680-43ACDADE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4BC-6C28-47F1-9EAA-B00C7B4D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4E4-8EB1-457F-8D79-1945F48C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A76-42CA-4E79-8F88-0C592967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A3D-9626-4DE0-A78B-F3AD1D13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DCA-3FC3-4D77-BB87-55B952D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FE6-3215-4766-A16B-7513181F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FDC5-9CC2-4335-A330-BAAC134F7E01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mendelu.cz/af_291_projekty2/vseo/print.php?page=1418&amp;typ=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AFF PPT Titl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428760" y="642960"/>
            <a:ext cx="7786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view and Expansion of the Clean Livestock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eef Forum 21</a:t>
            </a:r>
            <a:r>
              <a:rPr b="0" lang="en-IE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July 20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aula Barry Walsh DC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57160" y="0"/>
            <a:ext cx="6459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eb2.mendelu.cz/af_291_projekty2/vseo/files/27/482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62640" y="3143160"/>
            <a:ext cx="4581360" cy="343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428760" y="1500120"/>
            <a:ext cx="4071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785880" y="642960"/>
            <a:ext cx="75009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Why do we need a review and expansion of CL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ide to carcase contamination is a major source of pathogens on m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ood safety – </a:t>
            </a:r>
            <a:r>
              <a:rPr b="0" lang="en-IE" sz="3200" spc="-1" strike="noStrike">
                <a:solidFill>
                  <a:srgbClr val="ffffff"/>
                </a:solidFill>
                <a:latin typeface="Calibri"/>
              </a:rPr>
              <a:t>verocytotoxic E. Coli, Sal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Trade ri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 – beef intended for grinding [F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 – opening of the sheep market [F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hinese hide and fleece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214280" y="500040"/>
            <a:ext cx="6786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a review and expansion of CLP -  Ris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oss of Chinese hide and fleece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Failure to capitalise on US markets for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eef intended for gr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Failure to gain sheep meat access to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Association with a food bo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illness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28800" y="428760"/>
            <a:ext cx="7858080" cy="68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o has a ro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ll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armers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ood business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aulier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[M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cess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ide and fleece sto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AFM co-ordinating 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ole of Teagasc, FSAI – evidence based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     information to inform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Bord 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57120" y="500040"/>
            <a:ext cx="7786800" cy="65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alibri"/>
              </a:rPr>
              <a:t>How  do we progress the review and expansion of CL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Commenced with preliminary discussions internally in DAF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Discussions now ongoing with stakeholders – need positive, constructive eng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Timeline – progress as rapidly as possible to get practical programme in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c00000"/>
                </a:solidFill>
                <a:latin typeface="Aharoni"/>
                <a:ea typeface="Aharoni"/>
              </a:rPr>
              <a:t>Your progra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c00000"/>
                </a:solidFill>
                <a:latin typeface="Aharoni"/>
                <a:ea typeface="Aharoni"/>
              </a:rPr>
              <a:t>Your animals, meat , hide and fle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c00000"/>
                </a:solidFill>
                <a:latin typeface="Aharoni"/>
                <a:ea typeface="Aharoni"/>
              </a:rPr>
              <a:t>Your 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000080" y="500040"/>
            <a:ext cx="6715080" cy="72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Other related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Knowledge trans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Farmers as Food Business Oper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CLP in the context of the farm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sses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Ploughing 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FSAI review of VTEC – Scientific S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DAFF PPT Titl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428760" y="642960"/>
            <a:ext cx="77864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view and Expansion of the Clean Livestock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aula Barry Walsh DC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0040" y="857160"/>
            <a:ext cx="7858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lean Livestock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important to review and expan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o has a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ow to progress mat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ther related initi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42960" y="214200"/>
            <a:ext cx="764388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lean Livestock Policy – what is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t is a multi-stakeholder programme that promotes the cleanliness of animals at production to ensure clean when presented for slaughter for human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LP introduced in 1998 – cattl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857160" y="0"/>
            <a:ext cx="6459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785880" y="928800"/>
            <a:ext cx="4071960" cy="242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lock of sheep with the wool very dirty Stock Photo - 12866313"/>
          <p:cNvPicPr/>
          <p:nvPr/>
        </p:nvPicPr>
        <p:blipFill>
          <a:blip r:embed="rId3"/>
          <a:stretch/>
        </p:blipFill>
        <p:spPr>
          <a:xfrm>
            <a:off x="4429080" y="335772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857160" y="0"/>
            <a:ext cx="6459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lock of sheep with the wool very dirty Stock Photo - 12866313"/>
          <p:cNvPicPr/>
          <p:nvPr/>
        </p:nvPicPr>
        <p:blipFill>
          <a:blip r:embed="rId2"/>
          <a:stretch/>
        </p:blipFill>
        <p:spPr>
          <a:xfrm>
            <a:off x="2571840" y="150012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1619280" y="836640"/>
            <a:ext cx="59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57160" y="0"/>
            <a:ext cx="6459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[Legging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857240" y="1071720"/>
            <a:ext cx="44197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857160" y="0"/>
            <a:ext cx="6459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[Hide remov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271600" y="1309680"/>
            <a:ext cx="46008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857160" y="0"/>
            <a:ext cx="6459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Hide rem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286000" y="1000080"/>
            <a:ext cx="5010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57160" y="0"/>
            <a:ext cx="6459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[Faecal contamina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571760" y="1071720"/>
            <a:ext cx="5786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06:23:33Z</dcterms:created>
  <dc:creator>laptop.user</dc:creator>
  <dc:description/>
  <dc:language>en-US</dc:language>
  <cp:lastModifiedBy>Paula.Barrywalsh</cp:lastModifiedBy>
  <dcterms:modified xsi:type="dcterms:W3CDTF">2016-07-21T13:27:44Z</dcterms:modified>
  <cp:revision>27</cp:revision>
  <dc:subject/>
  <dc:title>Slide 1</dc:title>
</cp:coreProperties>
</file>